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A90A-1857-4B1A-AB4D-6547929C61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157D-36ED-4171-95D1-C75634285B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98520" y="800280"/>
            <a:ext cx="4265640" cy="31986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884-4DE9-4BCA-A552-376E60E4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D8C-24FC-4DB2-91CC-05DFC09A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9AE-DCB6-4000-82FE-63F8ABB8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388-01AE-4619-AF4C-05867418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C50-5709-44BA-B648-9354526E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AC8-EA79-474A-BE50-2037A26C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4FB-E66A-4528-8900-4CC68700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007-27FB-4A5E-8EC5-86ADEFA4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DD9-23BE-4E79-B4A9-1DE50F42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B82-0468-4E9E-ACCB-0040450D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875-8087-41A5-B59E-6DBD8E63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C39-A26C-4A36-BF64-33540688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03CE-B17D-47EC-BD61-3C866818066E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ierre@guillaumin.eu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7A45-ADC5-4648-8F73-54922A8F3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0920" y="3933720"/>
            <a:ext cx="8567640" cy="232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fr-FR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i="1" lang="fr-FR" sz="2000" spc="-1" strike="noStrike">
                <a:solidFill>
                  <a:srgbClr val="000066"/>
                </a:solidFill>
                <a:latin typeface="Arial"/>
              </a:rPr>
              <a:t>Fatima El Hadad-Gauthier, CIHEAM-IAM Montpellier, UMR MOISA 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00066"/>
                </a:solidFill>
                <a:latin typeface="Arial"/>
              </a:rPr>
              <a:t> 02 décembre 2010, Perpign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3645000"/>
            <a:ext cx="91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66"/>
                </a:solidFill>
                <a:latin typeface="Arial"/>
              </a:rPr>
              <a:t>Implantations des entreprises européennes de la filière fruits et légumes dans les Pays du Sud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0" y="152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515"/>
                </a:solidFill>
                <a:latin typeface="Futura Book"/>
              </a:rPr>
              <a:t>CIHEAM - IAM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Grille de lecture des stratégies d’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Globalement trois types de straté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xpansion horizontale, stratégies de product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ntrôle vertical de l’amont, stratégies d’importat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tratégies mixtes, de réseau (ex. : un expéditeur et ses fournisseu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61248" presetSubtype="311733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61248" presetSubtype="311733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61248" presetSubtype="311733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61248" presetSubtype="311733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6600"/>
                </a:solidFill>
                <a:latin typeface="Times New Roman"/>
              </a:rPr>
              <a:t>Stratégies de producteurs... </a:t>
            </a:r>
            <a:br>
              <a:rPr sz="40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4d"/>
                </a:solidFill>
                <a:latin typeface="Arial"/>
              </a:rPr>
              <a:t>Entreprise Dimust production-expédition (Perpignan), C.A : 8 Millions 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ahoma"/>
              </a:rPr>
              <a:t>èm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gamme, gamme variée de salades, segmentation off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rchés : industriels France, GB,  Pays-Bas, Allemag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ctivité d’origine, production salade d’hi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otivations  :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recherche de complémentarité saisonnièr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pour conserver les clients en période hivernale (allongement calendri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spection Maroc et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005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mplantation filiale en Tunisi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Gafsa), inv : 1,5 millions Eu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pital : 66% avec participation de SICAR (34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4d"/>
                </a:solidFill>
                <a:latin typeface="Arial"/>
              </a:rPr>
              <a:t>Entreprise DIMU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urfaces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80 ha en location dont 40 ha salades d’hiver , diversification : essais melon et haricot v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alendrier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ct-nov : origine France plein ch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Déc-février : origine Tunisi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plein-champ domine + complément France sous-ser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rs/Avril/Mai : 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4d"/>
                </a:solidFill>
                <a:latin typeface="Arial"/>
              </a:rPr>
              <a:t>Entreprise DIMUS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5% des approvisionnements de Dismu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75% : production propre + producteurs locaux (6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gistique : Maritime Tunis/Marseille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plateforme Perpignan ou direct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erspectiv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pérenniser l’activité salade et développer d’autres productions en complé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recherche de nouveaux partenaires français ou tunisiens pour se développe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Entreprise Agrolito (Carthagène, Murcie) C.A : 17 Millions 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duit standard : icebe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istorique : 1996 producteur français en France (Normandie) de salade plein-champ d’été, limites climat pour production salade d’hiver pour un approvisionnement plus lo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1998 : implantation en Espagne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Agrolito Espag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 la suite volonté de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nquérir de nouveaux clients, en Europe de l’Es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où le marché de la 4e gamme est émergent mais difficile à partir de l’Espag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Entreprise Agrolito (Carthagène, Murcie) C.A : 17 Millions 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005 : Implantation en Tunisi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Enfidha), partenariat avec l’OTD (34% de la filiale Agrolito Tunisie) pour marchés Est (Pologne, Hongrie, Roumanie, Russie) car avantage logisti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urfaces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150 h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alendrier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Novembre à Avril (idem Espagn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iliale Tunisie : 25% du C.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Un producteur adhérent Sica Agrisud, Perpig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004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mplantation au Maroc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Agrobio (Agad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production tomate ronde standar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Inv initial : 1 millions eu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30 ha, locations des ter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005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50 ha</a:t>
            </a:r>
            <a:r>
              <a:rPr b="1" lang="fr-FR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location SODEA)</a:t>
            </a: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rtichaut plein champ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duction précoce de qualit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Un producteur adhérent Sica Agrisud, Perpig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009 : 90 h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dont : 50ha (tomate ronde sous-serre), 30 ha melon charentais plein champ, 10 ha haricot ver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duction à un coût compétitif d’un produit standard à faible VA et spécialisation en France sur produits forte 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 ha tomate : investissement 50 000 euros (France 1 Millions eur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el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depuis 2006 partenariat avec un producteur-expéditeur (Val de Sérign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25520" y="25992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Stratégies de producteurs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2 études de cas dans la filière salade, 1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2. Stratégies d’importateurs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exemple dans la filière agrum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7138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Groupe Canavese (Aubagne) C.A : 96 Millions 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duction propre : 30 à 40 % de l’approvisionnement total (100 000 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roupe déjà engagé en production (1400 ha de bananeraie en Côte d’Ivoi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tratégies de sécurisation de l’approvisionnement qualité et volume en prévision d’un offre plus r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06 : Implantation au Maroc pour la production d’agrumes : JV Canavese-Famille Belhadj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30 ha (Souss et Berkane) location SODEA (40 ans) , 5 000 ton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Groupe Canavese (Aubagne) C.A : 96 Millions 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rché export : Russie, Canada, 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pécialisation petits agrumes de qualité : clémentine 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rkan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Perspectives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50 ha (appel offre SODE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5 000 à 35 000 ton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réation AOP : clémentine de Berk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utres variétés de petits agru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2. stratégies d’importateurs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exemple dans la filière agrum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lan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texte : situation des fruits et légumes dans l’Euro-méditerrané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Questions et méthodolo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incipaux résult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dre de lecture des stratégies d’investissement des firmes dans les PS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tudes de cas dans différentes filières (salade, agrumes, tomate et pêche nectarine), dans deux pays (Maroc, Tunisi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i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im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3. Stratégie mixte, de réseau...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Etude de cas dans la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Zina Fresh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 partenariat tripartit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07 : Partenariat initial entre deux producteurs français (66%) et un producteur tunisien (34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9 ha : production tomate cockt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uis entrée de l’expéditeur au capital (25%) pour financer un investissement de 1,5 million € et sécuriser son approvisionnement en tomate d’hiver (tomate 40% de son C.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Zina Fresh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 site d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l Hamma, région de Gabès, géotherm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itialement 9 ha ; 5 nouveaux ha avec l’entrée au capital de l’expédite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500 tonnes tomate (grappe et cockta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000 tonnes aubergi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atégie L&amp;S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Tomate rond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: 80% France – fin février à mi oct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iver : Maro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Grappe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France fin février – mi octobre, Hiver :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Cocktail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producteurs associés + Tunisie mi oct-fin m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3. Stratégie mixte, de réseau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Etude de cas dans la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1391744" presetSubtype="31399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Zina Fresh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ourquoi la Tunisi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eu d’opportunités de développement au Mar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rigine nouvelle,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différenciation par rapport à l’origine Maroc auprès de la G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tout logistiqu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: 48h Tunis-Marseille pour un coût de 3000€ (4 j. Agadir-France, 6000€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ansport par voie maritime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tout environnemental, faible bilan Car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Production de qualité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géotherm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3. Stratégie mixte, de réseau... </a:t>
            </a:r>
            <a:br>
              <a:rPr sz="36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Etude de cas dans la filière tomat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1391744" presetSubtype="31404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3. Stratégie mixte, de réseau...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filière pêche nectarine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La Melba : un exemple d’internationalisation de coopérative agric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assin d’approvisionnement : vallée de la Têt (66), 400ha, 7000 T, juin-aoû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lendrier de production trop court, pression concurrentielle de l’Espagn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ZapfDingba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07 : Implantation en Tunisie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mplémentarité calendrier segment précoc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, coûts compétitifs, avantages logistiques, qualité, image de nouveau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ZapfDingba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Pérenniser l’activité en Franc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1391744" presetSubtype="31411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1391744" presetSubtype="31411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1391744" presetSubtype="31411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1391744" presetSubtype="31411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1391744" presetSubtype="31411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La Melba : comment s’est réalisé l’investissement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s producteurs adhérents pilotes (démarchage, recherche de partenair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réation d’une Sarl : Melba Interna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tenariat avec deux partenaires tunisi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755640" y="508464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763640" y="4653000"/>
            <a:ext cx="624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elba Tunisie = Melba International (66%) + famille de propriétaires terriens (26%) + 1 producteur tunisien (8%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3. Stratégie mixte, de réseau...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filière pêche nectarine</a:t>
            </a: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0" presetSubtype="314208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0" presetSubtype="314208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0" presetSubtype="314208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0" presetSubtype="314208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4d"/>
                </a:solidFill>
                <a:latin typeface="Arial"/>
              </a:rPr>
              <a:t>La Melba : site de production en Tun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calité : Meknassy (proche de Sfa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vestissement : 450000 € (plantation + station de conditionnem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duction de mi-avril à début juin… si chevauchement avec prod. française : marché local (à développer + Libye + pays du Golf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30 T en 2010… objectif 1000 T en 20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0 employ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cc6600"/>
                </a:solidFill>
                <a:latin typeface="Times New Roman"/>
              </a:rPr>
              <a:t>3</a:t>
            </a:r>
            <a:r>
              <a:rPr b="1" i="1" lang="fr-FR" sz="3600" spc="-1" strike="noStrike">
                <a:solidFill>
                  <a:srgbClr val="cc6600"/>
                </a:solidFill>
                <a:latin typeface="Times New Roman"/>
              </a:rPr>
              <a:t>. Stratégie mixte, de réseau...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filière pêche nectarine</a:t>
            </a: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391744" presetSubtype="314311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Bilan sur les trois stratégies étudié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otivations identiques pour les entreprises européenne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plémentarités et allongement des calendriers de commercialisation, volume plus importants pour une présence la plus  longue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écurisation de l’approvisionnement –importateurs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vantages pays Sud quand Partenari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 transfert de savoir-faire et compétences managér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Développement nouvelles cultu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- Accès réseaux de distrib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61248" presetSubtype="31438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Limit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ude exploratoire, difficultés à générali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nque de données sur les implantations à l’étranger, nécessité d’une base de données sur les implantations à l’étran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hénomène encore récent, manque de rec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scrétion plus ou moins importante des acteurs à ce suj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Conclusion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mplantation au Sud : tendance à la hauss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mpact des IDE sur les filières locales, développement local 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imension nouvelle des échanges régionaux de produits agric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838080" y="1052640"/>
          <a:ext cx="7315200" cy="5649840"/>
        </p:xfrm>
        <a:graphic>
          <a:graphicData uri="http://schemas.openxmlformats.org/drawingml/2006/table">
            <a:tbl>
              <a:tblPr/>
              <a:tblGrid>
                <a:gridCol w="1346400"/>
                <a:gridCol w="1887480"/>
                <a:gridCol w="1401840"/>
                <a:gridCol w="1403280"/>
                <a:gridCol w="1276200"/>
              </a:tblGrid>
              <a:tr h="298440">
                <a:tc rowSpan="2"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Ra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Pay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Moyenne 2004-20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0 a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Production (M.t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Réparti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Evolu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urqu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8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Ital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3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Espag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9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Egyp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4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Fra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-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Maro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8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Grè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-1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Algér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Syr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7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Portug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otal 11 PSE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3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84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otal 5 PM-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1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842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otal 16 EU-M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84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otal Mon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 404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 gridSpan="2"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Source : FAOStat, 200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107"/>
          <p:cNvSpPr/>
          <p:nvPr/>
        </p:nvSpPr>
        <p:spPr>
          <a:xfrm>
            <a:off x="324000" y="0"/>
            <a:ext cx="8820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Contexte :</a:t>
            </a: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 une production qui évolue globalement peu mais plus dynamique au Su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rcRect l="3127" t="25782" r="32500" b="25003"/>
          <a:stretch/>
        </p:blipFill>
        <p:spPr>
          <a:xfrm>
            <a:off x="3429000" y="2133720"/>
            <a:ext cx="5715000" cy="3495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cc6600"/>
                </a:solidFill>
                <a:latin typeface="Times New Roman"/>
              </a:rPr>
              <a:t>Contexte</a:t>
            </a:r>
            <a:br>
              <a:rPr sz="3600"/>
            </a:br>
            <a:r>
              <a:rPr b="0" i="1" lang="fr-FR" sz="2400" spc="-1" strike="noStrike">
                <a:solidFill>
                  <a:srgbClr val="cc6600"/>
                </a:solidFill>
                <a:latin typeface="Times New Roman"/>
              </a:rPr>
              <a:t>Exportations de fruits et légumes de la zone Euro-Med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3657600" y="27432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04920" y="259092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0" y="2209680"/>
            <a:ext cx="403848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Pays méd. UE : 78% des exportations de la zo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Faible poids des PSE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3 principaux exportateurs au Sud : Turquie (53%), Maroc (13%), Israël (12%)..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Arbitrage export-marché loca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Débouché principal : UE (59%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4d"/>
                </a:solidFill>
                <a:latin typeface="Arial"/>
              </a:rPr>
              <a:t>Concurrence avec les productions européennes, ouverture des échang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0" presetSubtype="215558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6600"/>
                </a:solidFill>
                <a:latin typeface="Times New Roman"/>
              </a:rPr>
              <a:t>Contexte</a:t>
            </a:r>
            <a:br>
              <a:rPr sz="4800"/>
            </a:br>
            <a:r>
              <a:rPr b="0" i="1" lang="fr-FR" sz="2800" spc="-1" strike="noStrike">
                <a:solidFill>
                  <a:srgbClr val="cc6600"/>
                </a:solidFill>
                <a:latin typeface="Times New Roman"/>
              </a:rPr>
              <a:t>Comparaison Nord-Sud des enjeux des filières F&amp;L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4267080" cy="2881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u No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ession concurrentielle des productions des PS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ûts élevés, perte de compétitivit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cherche de nouveaux relais de croissanc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écessité d’allonger les calendriers de producti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43040" y="1844640"/>
            <a:ext cx="4800600" cy="2881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u S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soin de modernisation, d’acquisition rapide des technologies moder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soin de financemen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ésengagement généralisé des E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Faibles capacité de financement des agriculteurs locau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6400800" y="5029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752480" y="5029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876920" y="5638680"/>
            <a:ext cx="342900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ppel à l’investissement étranger privé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x du Maroc (PMV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04920" y="54100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Opportunité pour certaines entreprises européennes : développer des productions dans les PSE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Questions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i investit dans la production de fruits et légumes des PS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elles motivatio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elles formes prend l’investiss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dre de l’étude : PSDR Salagrifel – INRA,IAMM – volet 3 : filière F &amp; L et son environnement intern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Méthodologi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Études de cas d’implantations dans deux pays d’Afrique du Nord : Maroc et Tunis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tretiens semi-dir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incipaux Résultats </a:t>
            </a:r>
            <a:br>
              <a:rPr sz="4400"/>
            </a:br>
            <a:r>
              <a:rPr b="1" i="1" lang="fr-FR" sz="2000" spc="-1" strike="noStrike">
                <a:solidFill>
                  <a:srgbClr val="cc6600"/>
                </a:solidFill>
                <a:latin typeface="Times New Roman"/>
              </a:rPr>
              <a:t>Caractérisation des entreprises européennes engagées dans la production de FL en Afrique du Nord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Zones d’implantation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: principalement Maroc, mais émergence de la Tunisi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Acteurs engagé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: producteurs, importateurs, transformateurs, dans des logiques de « cavalier seul » ou de partenari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Filières concerné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alades, tomates, pêche, agru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lobalement, productions intensives en main d’œuvre et permettant une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mplémentarité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alendrier, de gamme, ou de débouch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incipaux Résultats </a:t>
            </a:r>
            <a:br>
              <a:rPr sz="4400"/>
            </a:br>
            <a:r>
              <a:rPr b="1" i="1" lang="fr-FR" sz="2400" spc="-1" strike="noStrike">
                <a:solidFill>
                  <a:srgbClr val="cc6600"/>
                </a:solidFill>
                <a:latin typeface="Times New Roman"/>
              </a:rPr>
              <a:t>Différents modes d’entré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vestissement direct en production, sans partenari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vestissement direct en production avec un partenaire local non producteu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vestissement direct en production avec un producteur local... partenariat gagnant-gagn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61248" presetSubtype="311603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61248" presetSubtype="311603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61248" presetSubtype="311603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29:00Z</dcterms:created>
  <dc:creator>guillaum</dc:creator>
  <dc:description/>
  <dc:language>en-US</dc:language>
  <cp:lastModifiedBy>PROPRIETAIRE</cp:lastModifiedBy>
  <dcterms:modified xsi:type="dcterms:W3CDTF">2010-12-22T15:47:07Z</dcterms:modified>
  <cp:revision>90</cp:revision>
  <dc:subject/>
  <dc:title>L’implication des entreprises européennes de la filière fruits et légumes dans la production des pays d’Afrique du Nord</dc:title>
</cp:coreProperties>
</file>